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42F2D9-AEBD-4F83-A7B4-285C626AD9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9174F-B154-4667-8962-104A183CF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0D3983-8D66-4EBA-B3EC-DE0DA7799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70DF40-CD3D-4A79-8FEB-55C77DC2F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05BBA8-94BF-45FD-95C9-E40D9ACB0B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60B2AD-0A2B-474E-AAB0-5C760EF7B1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85CE97-9AE7-47F8-8359-3C6507A15C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E58585-6474-4FA5-8364-AD67575A8A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9D2A18-A4F7-4FF5-90D2-7249E76DB1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28D6FD-E636-4C46-9A82-949904127A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D380A-DA8B-4327-B455-D1E54D8AC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2CF66-54FD-4B6F-B66F-8352421F3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B5898-97C4-4251-AA94-54561437B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CF725-CC2A-4537-85FE-F1DC23883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1DE283-D2A3-405D-AC4E-230C6C9A49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122636-98E0-4876-A49A-865A86E548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1E3951-0002-46A2-B5C0-C901CC3EDD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004B30-AE55-448B-812A-E2296BBA7A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3CD5E0-BEC4-4BC5-9698-230B40926F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F1DD5F-A724-4D8E-A3A4-AD6A649538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A77632-F10F-4D7B-A06C-7E68982717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F7213C-0A6C-4C3C-B7A5-B5C5351111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E3454-B32B-455C-B79D-8B9E155F1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E86B83-D72B-4554-B21A-B8EDE8C3AE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313826-6848-43C8-B71F-6AE4E3C30B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D35C64-3A1C-40AE-A7BF-D6BBCCF8AC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AA3907-64D2-4AF0-A330-3E526143F2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153406-E0FB-4714-AD02-BA34194A29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DF04B6-E725-45B9-9B1D-7E7ADBEE2A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39BDAF-9CCC-44B6-B5F2-6469C102A2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286C63-3941-46F8-B34E-0FEE07C5AE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E015B9-3A2D-4A21-B711-03F40AA2D4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E30389-F36C-4FE6-B868-7A5B4075AD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1AD93-9CAC-415B-99AF-56BCA2826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5A5BAD-2EB3-4CC0-8677-B8DC53E3B4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4BEDC4-22BC-449B-AFEF-B81524B4FE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7E2341-AA05-4946-8C37-574B69462D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98BBD0-D4C6-4396-972E-59C284C454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852DD6-12E5-44BE-836C-481EEAB0FD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4B5826-783B-4FFC-8484-28A4496EBC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A3AFF8-1F26-462B-BA56-758578C3B6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D0B1AB-81DE-4A1D-965E-346D9519DD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FDC28D-BED7-4AD4-AEC0-1E12B9E4EB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8EB24D-6C3F-4434-96E4-C77FD464D6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2C57F-1D5A-4F38-A860-E62872275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5A1E4C-D911-48BC-8712-7442A8EE1C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B1200B-6DDE-41EF-9E2E-47412278D3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1A7E21-043F-401F-81B4-487E580953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92FDC8-1508-49A7-89D3-38EFF3182B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0B9064-B97D-4AB4-8560-04A3CC920D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5CB216-D6DA-4277-B7EB-865551FD93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59DA07-D22D-4F80-8956-530B39E6F0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3502B4-1A20-44FB-BAA3-A70F8814D8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FB8667-4637-4F8C-B661-681B6291AA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9A747A-593A-4B5C-A1FB-3FDF6AAFC7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02330-658C-45F4-B10A-B3E137A71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CB2E43-3831-4043-8ACE-D0180EDC4C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B26710F-879B-44DF-8AC0-73F8C7AC9B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C89A37-1E3C-48C2-9748-E07898A07C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FC3E7E-796C-4271-84A2-F7B4BBAAD1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C558F2-BF33-4F56-B76A-C16F62CC8B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346C47-DCEA-4B07-BEE3-EC5EBE1BC4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25AA54-ED1B-49B2-9C57-883E4EB002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5466BF-DFE1-4F71-892C-9A44382341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11820E-C01C-40C5-B6F8-F177E3FA29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740954-E53A-43F7-9D84-EDA16E9B41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3A67F-FA7B-4547-93F8-301219CAE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5FB43A-B0BB-4341-A628-AE238A788C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2441A7-0093-4F5F-BF99-B83D078BCA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60AEB1-2246-4AB7-B81E-3E1132D65D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9E927-B60C-4A88-AAA6-507327C61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AF0C6-847A-4DB2-98A8-837B6EF81E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80808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9b9a98"/>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0BF81C-F857-4866-9E7E-3681534C0DC1}" type="datetime">
              <a:rPr b="0" lang="en-US" sz="1000" spc="-1" strike="noStrike">
                <a:solidFill>
                  <a:srgbClr val="9b9a98"/>
                </a:solidFill>
                <a:latin typeface="Times New Roman"/>
              </a:rPr>
              <a:t>07/31/26</a:t>
            </a:fld>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9b9a9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B5C7FF-9EA5-46EA-B606-DDCB94F71D23}"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10"/>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12"/>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80808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9b9a98"/>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F8359B-2776-48F6-93C2-78B20C311610}" type="datetime">
              <a:rPr b="0" lang="en-US" sz="1000" spc="-1" strike="noStrike">
                <a:solidFill>
                  <a:srgbClr val="9b9a98"/>
                </a:solidFill>
                <a:latin typeface="Times New Roman"/>
              </a:rPr>
              <a:t>07/31/26</a:t>
            </a:fld>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9b9a9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AA18F5-61DB-411C-A25C-1896544C77C4}"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10"/>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2"/>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80808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9b9a98"/>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43A51E-F2C3-4482-8977-09C8F4537635}" type="datetime">
              <a:rPr b="0" lang="en-US" sz="1000" spc="-1" strike="noStrike">
                <a:solidFill>
                  <a:srgbClr val="9b9a98"/>
                </a:solidFill>
                <a:latin typeface="Times New Roman"/>
              </a:rPr>
              <a:t>07/31/26</a:t>
            </a:fld>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9b9a9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03A934-2506-44A3-8F59-14A11DEB5867}"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9b9a98"/>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38C1D3-CECA-4653-BF43-2FCD104DBF45}" type="datetime">
              <a:rPr b="0" lang="en-US" sz="1000" spc="-1" strike="noStrike">
                <a:solidFill>
                  <a:srgbClr val="9b9a98"/>
                </a:solidFill>
                <a:latin typeface="Times New Roman"/>
              </a:rPr>
              <a:t>07/31/26</a:t>
            </a:fld>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9b9a9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D0FE3F-E4A4-4FEA-9066-BF6CDC3790F3}"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80808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9b9a98"/>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9DFB3A-5953-4E06-9788-04676D64764D}" type="datetime">
              <a:rPr b="0" lang="en-US" sz="1000" spc="-1" strike="noStrike">
                <a:solidFill>
                  <a:srgbClr val="9b9a98"/>
                </a:solidFill>
                <a:latin typeface="Times New Roman"/>
              </a:rPr>
              <a:t>07/31/26</a:t>
            </a:fld>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9b9a9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4488EC-0B82-4D2F-AEF4-003BDC43F129}"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9b9a98"/>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A9084C-8983-42F9-9DCF-2076946F40A0}" type="datetime">
              <a:rPr b="0" lang="en-US" sz="1000" spc="-1" strike="noStrike">
                <a:solidFill>
                  <a:srgbClr val="9b9a98"/>
                </a:solidFill>
                <a:latin typeface="Times New Roman"/>
              </a:rPr>
              <a:t>07/31/26</a:t>
            </a:fld>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9b9a9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DFB019-C497-40D6-B2F6-5ECD63843001}"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youtube.com/watch?v=K0J-T2lr0Ms"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teachingandlearningresources.co.uk/homophones4.s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pic>
        <p:nvPicPr>
          <p:cNvPr id="254" name="Title 1" descr=""/>
          <p:cNvPicPr/>
          <p:nvPr/>
        </p:nvPicPr>
        <p:blipFill>
          <a:blip r:embed="rId1"/>
          <a:stretch/>
        </p:blipFill>
        <p:spPr>
          <a:xfrm>
            <a:off x="420840" y="3333600"/>
            <a:ext cx="6492600" cy="2311560"/>
          </a:xfrm>
          <a:prstGeom prst="rect">
            <a:avLst/>
          </a:prstGeom>
          <a:ln w="0">
            <a:noFill/>
          </a:ln>
        </p:spPr>
      </p:pic>
      <p:sp>
        <p:nvSpPr>
          <p:cNvPr id="255" name="PlaceHolder 1"/>
          <p:cNvSpPr>
            <a:spLocks noGrp="1"/>
          </p:cNvSpPr>
          <p:nvPr>
            <p:ph type="subTitle"/>
          </p:nvPr>
        </p:nvSpPr>
        <p:spPr>
          <a:xfrm>
            <a:off x="433440" y="1544760"/>
            <a:ext cx="6480000" cy="1752480"/>
          </a:xfrm>
          <a:prstGeom prst="rect">
            <a:avLst/>
          </a:prstGeom>
          <a:noFill/>
          <a:ln w="0">
            <a:noFill/>
          </a:ln>
        </p:spPr>
        <p:txBody>
          <a:bodyPr lIns="0" rIns="0" tIns="0" bIns="0" anchor="b">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Rules</a:t>
            </a:r>
            <a:endParaRPr b="0" lang="en-US" sz="4600" spc="-1" strike="noStrike">
              <a:solidFill>
                <a:srgbClr val="ffffff"/>
              </a:solidFill>
              <a:latin typeface="Franklin Gothic Book"/>
            </a:endParaRPr>
          </a:p>
        </p:txBody>
      </p:sp>
      <p:sp>
        <p:nvSpPr>
          <p:cNvPr id="272"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into your groups. You will be given a sentence and you have to identify the homonym and say what the other homonym would be. Some may have more than one correction. When they do, you can only guess one of them. Another group will have to get the others. You will lose a point for every incorrect answer, and get a point for every correct one.</a:t>
            </a:r>
            <a:endParaRPr b="0" lang="en-US" sz="2800" spc="-1" strike="noStrike">
              <a:solidFill>
                <a:srgbClr val="ffffff"/>
              </a:solidFill>
              <a:latin typeface="Arial"/>
            </a:endParaRPr>
          </a:p>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The dog ate the food.</a:t>
            </a:r>
            <a:endParaRPr b="0" lang="en-US" sz="2800" spc="-1" strike="noStrike">
              <a:solidFill>
                <a:srgbClr val="ffffff"/>
              </a:solidFill>
              <a:latin typeface="Arial"/>
            </a:endParaRPr>
          </a:p>
          <a:p>
            <a:pPr lvl="1" marL="722160" indent="-272880">
              <a:lnSpc>
                <a:spcPct val="8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omonym is ate. The other homonym would be eigh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4"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y mined the gold.</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ined, Min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7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7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6"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s hat didn’t cost me a cent.</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ent, Scen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76">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7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8"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e won the tournament.</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on, On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is one has two.</a:t>
            </a:r>
            <a:endParaRPr b="0" lang="en-US" sz="4600" spc="-1" strike="noStrike">
              <a:solidFill>
                <a:srgbClr val="ffffff"/>
              </a:solidFill>
              <a:latin typeface="Franklin Gothic Book"/>
            </a:endParaRPr>
          </a:p>
        </p:txBody>
      </p:sp>
      <p:sp>
        <p:nvSpPr>
          <p:cNvPr id="280"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You dropped a popcorn kernel.</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You, Ewe, Yew</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Kernel, Colonel</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80">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80">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8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is one has two.</a:t>
            </a:r>
            <a:endParaRPr b="0" lang="en-US" sz="4600" spc="-1" strike="noStrike">
              <a:solidFill>
                <a:srgbClr val="ffffff"/>
              </a:solidFill>
              <a:latin typeface="Franklin Gothic Book"/>
            </a:endParaRPr>
          </a:p>
        </p:txBody>
      </p:sp>
      <p:sp>
        <p:nvSpPr>
          <p:cNvPr id="282"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 heard that the principal is quitting.</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 Eye</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incipal, Principle</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82">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82">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is one has two.</a:t>
            </a:r>
            <a:endParaRPr b="0" lang="en-US" sz="4600" spc="-1" strike="noStrike">
              <a:solidFill>
                <a:srgbClr val="ffffff"/>
              </a:solidFill>
              <a:latin typeface="Franklin Gothic Book"/>
            </a:endParaRPr>
          </a:p>
        </p:txBody>
      </p:sp>
      <p:sp>
        <p:nvSpPr>
          <p:cNvPr id="284"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ook at that odd board.</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dd, Awed</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oard, Bore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84">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84">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is one has three.</a:t>
            </a:r>
            <a:endParaRPr b="0" lang="en-US" sz="4600" spc="-1" strike="noStrike">
              <a:solidFill>
                <a:srgbClr val="ffffff"/>
              </a:solidFill>
              <a:latin typeface="Franklin Gothic Book"/>
            </a:endParaRPr>
          </a:p>
        </p:txBody>
      </p:sp>
      <p:sp>
        <p:nvSpPr>
          <p:cNvPr id="286"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 started the letter with “Dear Mary.”</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 Eye</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ar, Deer</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ry, Merr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86">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86">
                                            <p:txEl>
                                              <p:pRg st="1" end="1"/>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86">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28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is one has three.</a:t>
            </a:r>
            <a:endParaRPr b="0" lang="en-US" sz="4600" spc="-1" strike="noStrike">
              <a:solidFill>
                <a:srgbClr val="ffffff"/>
              </a:solidFill>
              <a:latin typeface="Franklin Gothic Book"/>
            </a:endParaRPr>
          </a:p>
        </p:txBody>
      </p:sp>
      <p:sp>
        <p:nvSpPr>
          <p:cNvPr id="288"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car was towed to the gate.</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owed, Toad, Toed</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o, Two, Too</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ate, Gai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88">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88">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88">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8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is one has three.</a:t>
            </a:r>
            <a:endParaRPr b="0" lang="en-US" sz="4600" spc="-1" strike="noStrike">
              <a:solidFill>
                <a:srgbClr val="ffffff"/>
              </a:solidFill>
              <a:latin typeface="Franklin Gothic Book"/>
            </a:endParaRPr>
          </a:p>
        </p:txBody>
      </p:sp>
      <p:sp>
        <p:nvSpPr>
          <p:cNvPr id="290"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 flourished his sword and challenged me to a duel.</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word, Soared</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o, Too, Two</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uel, Dual</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7"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c8c3"/>
                </a:solidFill>
                <a:uFillTx/>
                <a:latin typeface="Arial"/>
                <a:hlinkClick r:id="rId1"/>
              </a:rPr>
              <a:t>http://www.youtube.com/watch?v=K0J-T2lr0M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is one has three.</a:t>
            </a:r>
            <a:endParaRPr b="0" lang="en-US" sz="4600" spc="-1" strike="noStrike">
              <a:solidFill>
                <a:srgbClr val="ffffff"/>
              </a:solidFill>
              <a:latin typeface="Franklin Gothic Book"/>
            </a:endParaRPr>
          </a:p>
        </p:txBody>
      </p:sp>
      <p:sp>
        <p:nvSpPr>
          <p:cNvPr id="292"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n’t forget to cite your source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o, Two, Too</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ite, Sight, Site</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Your, You’r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92">
                                            <p:txEl>
                                              <p:pRg st="0" end="0"/>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292">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292">
                                            <p:txEl>
                                              <p:pRg st="2" end="2"/>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2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is one has four.</a:t>
            </a:r>
            <a:endParaRPr b="0" lang="en-US" sz="4600" spc="-1" strike="noStrike">
              <a:solidFill>
                <a:srgbClr val="ffffff"/>
              </a:solidFill>
              <a:latin typeface="Franklin Gothic Book"/>
            </a:endParaRPr>
          </a:p>
        </p:txBody>
      </p:sp>
      <p:sp>
        <p:nvSpPr>
          <p:cNvPr id="294"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 had to coax the fairy out of the bushe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 Eye</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o, Two, Too</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ax, Coke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airy, Ferr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94">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294">
                                            <p:txEl>
                                              <p:pRg st="1" end="1"/>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294">
                                            <p:txEl>
                                              <p:pRg st="2" end="2"/>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294">
                                            <p:txEl>
                                              <p:pRg st="3" end="3"/>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29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New Rules</a:t>
            </a:r>
            <a:endParaRPr b="0" lang="en-US" sz="4600" spc="-1" strike="noStrike">
              <a:solidFill>
                <a:srgbClr val="ffffff"/>
              </a:solidFill>
              <a:latin typeface="Franklin Gothic Book"/>
            </a:endParaRPr>
          </a:p>
        </p:txBody>
      </p:sp>
      <p:sp>
        <p:nvSpPr>
          <p:cNvPr id="296"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w, we’re going to switch it up. You now have to correct the sentences by replacing the incorrect homonyms in a sentence with the correct ones. This time, only one group can answer for each sentence. I will no longer tell you how many there are that are incorrec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8"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s manor was very disrespectful.</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nor should be Manner.</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298">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0"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peer had many ship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eer should be Pier.</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00">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30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2"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hare on the fir of the donkey was very soft.</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are should be hair.</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r should be fur.</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302">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302">
                                            <p:txEl>
                                              <p:pRg st="1" end="1"/>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3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4"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gorilla forces had a lot of flare.</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orilla should be Guerilla</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lare should be Flair.</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304">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304">
                                            <p:txEl>
                                              <p:pRg st="1" end="1"/>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3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6"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heroin of the tale had a horse voice.</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roin should be Heroine.</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rse should be Hoars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306">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306">
                                            <p:txEl>
                                              <p:pRg st="1" end="1"/>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3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8"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cougar praise upon the helpless yew.</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aise should be Prey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Yew should be Ew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308">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308">
                                            <p:txEl>
                                              <p:pRg st="1" end="1"/>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3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10"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profit preys every day.</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fit should be Prophet.</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ys should be Pray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310">
                                            <p:txEl>
                                              <p:pRg st="0" end="0"/>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31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EST!!!! YAY!!!!!</a:t>
            </a:r>
            <a:endParaRPr b="0" lang="en-US" sz="4600" spc="-1" strike="noStrike">
              <a:solidFill>
                <a:srgbClr val="ffffff"/>
              </a:solidFill>
              <a:latin typeface="Franklin Gothic Book"/>
            </a:endParaRPr>
          </a:p>
        </p:txBody>
      </p:sp>
      <p:sp>
        <p:nvSpPr>
          <p:cNvPr id="259"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c8c3"/>
                </a:solidFill>
                <a:uFillTx/>
                <a:latin typeface="Arial"/>
                <a:hlinkClick r:id="rId1"/>
              </a:rPr>
              <a:t>http://www.teachingandlearningresources.co.uk/homophones4.shtml</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12"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surge of the serf as the tied came in was very peaceful.</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rf should be Surf.</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ied should be Tid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312">
                                            <p:txEl>
                                              <p:pRg st="0" end="0"/>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312">
                                            <p:txEl>
                                              <p:pRg st="1" end="1"/>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3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14"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ne of the sole takes longer to heel.</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ne should be Pain.</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ole should be Soul.</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el should be Heal.</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314">
                                            <p:txEl>
                                              <p:pRg st="0" end="0"/>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14">
                                            <p:txEl>
                                              <p:pRg st="1" end="1"/>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14">
                                            <p:txEl>
                                              <p:pRg st="2" end="2"/>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1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16"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slay seemed to sore over the snow on sundae.</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lay should be Sleigh.</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ore should be Soar.</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undae should be Sunda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18"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ugs Bunny likes to eat a caret while keeping out of cite of Elmer Fudd, who is always hunting hair.</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ret should be Carrot.</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ite should be Sight.</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air should be Har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318">
                                            <p:txEl>
                                              <p:pRg st="0" end="0"/>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318">
                                            <p:txEl>
                                              <p:pRg st="1" end="1"/>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318">
                                            <p:txEl>
                                              <p:pRg st="2" end="2"/>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31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0"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thrown of the King during his rain was covered with the dough skin given to him by the barren.</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rown should be Throne.</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ain should be Reign.</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ugh should be Doe.</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arren should be Baro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320">
                                            <p:txEl>
                                              <p:pRg st="0" end="0"/>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320">
                                            <p:txEl>
                                              <p:pRg st="1" end="1"/>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320">
                                            <p:txEl>
                                              <p:pRg st="3" end="3"/>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32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1"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monyms are two words that are pronounced the same way but have different meaning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Some more common Homonyms</a:t>
            </a:r>
            <a:endParaRPr b="0" lang="en-US" sz="4100" spc="-1" strike="noStrike">
              <a:solidFill>
                <a:srgbClr val="ffffff"/>
              </a:solidFill>
              <a:latin typeface="Franklin Gothic Book"/>
            </a:endParaRPr>
          </a:p>
        </p:txBody>
      </p:sp>
      <p:sp>
        <p:nvSpPr>
          <p:cNvPr id="263"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Your, You’re</a:t>
            </a: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re, Their, There</a:t>
            </a: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o, To, Two</a:t>
            </a: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Four</a:t>
            </a: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y, Bye, Buy</a:t>
            </a: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o’s, Whose</a:t>
            </a: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ar, Here</a:t>
            </a: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new, New</a:t>
            </a: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 Know</a:t>
            </a: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ccept, Except</a:t>
            </a: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ffect, Effect</a:t>
            </a: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Here are a few other Homonyms</a:t>
            </a:r>
            <a:endParaRPr b="0" lang="en-US" sz="4100" spc="-1" strike="noStrike">
              <a:solidFill>
                <a:srgbClr val="ffffff"/>
              </a:solidFill>
              <a:latin typeface="Franklin Gothic Book"/>
            </a:endParaRPr>
          </a:p>
        </p:txBody>
      </p:sp>
      <p:sp>
        <p:nvSpPr>
          <p:cNvPr id="265"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ll Ready, Already</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air, Pare, Pear</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ast, Passed</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Vary, Very</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aist, Waste</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are, Wear, Where</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d, Add</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Dew, Do, Due</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Right, Rite, Wright, Write</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raise, Prays, Preys</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are, Wear, Where</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Ewe, Yew, You</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ir, Err, Heir</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isle, I’ll, Isle </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Hair, Hare</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Examples</a:t>
            </a:r>
            <a:endParaRPr b="0" lang="en-US" sz="4600" spc="-1" strike="noStrike">
              <a:solidFill>
                <a:srgbClr val="ffffff"/>
              </a:solidFill>
              <a:latin typeface="Franklin Gothic Book"/>
            </a:endParaRPr>
          </a:p>
        </p:txBody>
      </p:sp>
      <p:sp>
        <p:nvSpPr>
          <p:cNvPr id="267"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knight rode out at night.</a:t>
            </a:r>
            <a:endParaRPr b="0" lang="en-US" sz="2800" spc="-1" strike="noStrike">
              <a:solidFill>
                <a:srgbClr val="ffffff"/>
              </a:solidFill>
              <a:latin typeface="Arial"/>
            </a:endParaRPr>
          </a:p>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y,” I said to the two pirates.</a:t>
            </a:r>
            <a:endParaRPr b="0" lang="en-US" sz="2800" spc="-1" strike="noStrike">
              <a:solidFill>
                <a:srgbClr val="ffffff"/>
              </a:solidFill>
              <a:latin typeface="Arial"/>
            </a:endParaRPr>
          </a:p>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ate the whole apple and then fell in a hole.</a:t>
            </a:r>
            <a:endParaRPr b="0" lang="en-US" sz="2800" spc="-1" strike="noStrike">
              <a:solidFill>
                <a:srgbClr val="ffffff"/>
              </a:solidFill>
              <a:latin typeface="Arial"/>
            </a:endParaRPr>
          </a:p>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took a peek over the peak of the mountain.</a:t>
            </a:r>
            <a:endParaRPr b="0" lang="en-US" sz="2800" spc="-1" strike="noStrike">
              <a:solidFill>
                <a:srgbClr val="ffffff"/>
              </a:solidFill>
              <a:latin typeface="Arial"/>
            </a:endParaRPr>
          </a:p>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knave stood in the nave of the church.</a:t>
            </a:r>
            <a:endParaRPr b="0" lang="en-US" sz="2800" spc="-1" strike="noStrike">
              <a:solidFill>
                <a:srgbClr val="ffffff"/>
              </a:solidFill>
              <a:latin typeface="Arial"/>
            </a:endParaRPr>
          </a:p>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tied my shoe as the tide came in.</a:t>
            </a:r>
            <a:endParaRPr b="0" lang="en-US" sz="2800" spc="-1" strike="noStrike">
              <a:solidFill>
                <a:srgbClr val="ffffff"/>
              </a:solidFill>
              <a:latin typeface="Arial"/>
            </a:endParaRPr>
          </a:p>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made the maid clean up the mess.</a:t>
            </a:r>
            <a:endParaRPr b="0" lang="en-US" sz="2800" spc="-1" strike="noStrike">
              <a:solidFill>
                <a:srgbClr val="ffffff"/>
              </a:solidFill>
              <a:latin typeface="Arial"/>
            </a:endParaRPr>
          </a:p>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much wood would a woodchuck chuck if a woodchuck could chuck wood?</a:t>
            </a:r>
            <a:endParaRPr b="0" lang="en-US" sz="2800" spc="-1" strike="noStrike">
              <a:solidFill>
                <a:srgbClr val="ffffff"/>
              </a:solidFill>
              <a:latin typeface="Arial"/>
            </a:endParaRPr>
          </a:p>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Your turn</a:t>
            </a:r>
            <a:endParaRPr b="0" lang="en-US" sz="4600" spc="-1" strike="noStrike">
              <a:solidFill>
                <a:srgbClr val="ffffff"/>
              </a:solidFill>
              <a:latin typeface="Franklin Gothic Book"/>
            </a:endParaRPr>
          </a:p>
        </p:txBody>
      </p:sp>
      <p:sp>
        <p:nvSpPr>
          <p:cNvPr id="269"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rite two sentences, using two homonyms in each.</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680"/>
            <a:ext cx="7467480" cy="551664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Franklin Gothic Book"/>
              </a:rPr>
              <a:t>JEOPARDY</a:t>
            </a:r>
            <a:r>
              <a:rPr b="0" lang="en-US" sz="4600" spc="-1" strike="noStrike">
                <a:solidFill>
                  <a:srgbClr val="ffffff"/>
                </a:solidFill>
                <a:latin typeface="Franklin Gothic Book"/>
              </a:rPr>
              <a:t> </a:t>
            </a:r>
            <a:endParaRPr b="0" lang="en-US" sz="46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16:14:24Z</dcterms:created>
  <dc:creator>Katelyn Gentner</dc:creator>
  <dc:description/>
  <dc:language>en-US</dc:language>
  <cp:lastModifiedBy>Katelyn Gentner</cp:lastModifiedBy>
  <dcterms:modified xsi:type="dcterms:W3CDTF">2011-03-18T01:29:43Z</dcterms:modified>
  <cp:revision>36</cp:revision>
  <dc:subject/>
  <dc:title>Homonyms</dc:title>
</cp:coreProperties>
</file>